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E4E6-A59C-41A4-B5D7-908069ABBF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03C5-4F76-479F-9758-3779577476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8B5-04BA-4DA8-933D-B0572DFC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70F-39BE-4DBB-807D-84C4819C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57F-E4C8-46DE-8F37-A52D7F18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47B-7939-4598-8AC4-F7707F24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890-76F9-4744-8305-50AABDBA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FD3-3762-486A-AFC9-69AC156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FD5-E709-4425-B870-037ADF8A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EA3-5FE7-44B2-A097-18EE11F1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CAA-2245-4FCA-8523-DAF3658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956-E6FD-4C94-A634-871DEA5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7A7-74FC-4764-87D2-873E182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FE1-F1FB-488D-B3DA-AFB43D54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0791-29C9-4672-B542-C4C706DD80A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74640" y="3459240"/>
            <a:ext cx="5994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onstantia"/>
              </a:rPr>
              <a:t>Кузенков Юрий Алексеевич – руководитель Управления Роскомнадзора по Калу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031280" y="4626000"/>
            <a:ext cx="12294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nstantia"/>
              </a:rPr>
              <a:t>Иваново,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561960" y="1654200"/>
            <a:ext cx="802008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Constantia"/>
              </a:rPr>
              <a:t>«Ответственный за обработку персональных данных. Организация и проведение внутреннего контроля за соблюдением законодательства РФ о персональных данных, а также приема и обработки обращений и запросов субъектов персональных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687680" y="284040"/>
            <a:ext cx="2509560" cy="30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4320" y="181080"/>
            <a:ext cx="442800" cy="44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4356000" y="250920"/>
            <a:ext cx="4051440" cy="37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50920" y="163440"/>
            <a:ext cx="196920" cy="19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22360" y="195120"/>
            <a:ext cx="1082520" cy="1317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1" descr=""/>
          <p:cNvPicPr/>
          <p:nvPr/>
        </p:nvPicPr>
        <p:blipFill>
          <a:blip r:embed="rId3"/>
          <a:stretch/>
        </p:blipFill>
        <p:spPr>
          <a:xfrm>
            <a:off x="1536840" y="1994040"/>
            <a:ext cx="6235560" cy="85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60360" y="163440"/>
            <a:ext cx="195120" cy="19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30360" y="208080"/>
            <a:ext cx="1082520" cy="1317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2627280" y="1009800"/>
            <a:ext cx="43718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onstantia"/>
                <a:ea typeface="Times New Roman"/>
              </a:rPr>
              <a:t>Типовые ошиб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224000" y="1671480"/>
            <a:ext cx="745164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Назначение ответственного за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  <a:ea typeface="Times New Roman"/>
              </a:rPr>
              <a:t>обеспечение безопасности </a:t>
            </a: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персональных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Назначение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  <a:ea typeface="Times New Roman"/>
              </a:rPr>
              <a:t>нескольких лиц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ответственных за организацию обработку персональных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Назначение в качестве ответственного за организацию обработки персональных данных специалиста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Constantia"/>
                <a:ea typeface="Times New Roman"/>
              </a:rPr>
              <a:t>в узкопрофильной сфере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3"/>
          <a:stretch/>
        </p:blipFill>
        <p:spPr>
          <a:xfrm>
            <a:off x="684360" y="20462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4"/>
          <a:stretch/>
        </p:blipFill>
        <p:spPr>
          <a:xfrm>
            <a:off x="684360" y="289548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792000" y="163440"/>
            <a:ext cx="7883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700" spc="-1" strike="noStrike">
                <a:solidFill>
                  <a:srgbClr val="17375e"/>
                </a:solidFill>
                <a:latin typeface="Constantia"/>
              </a:rPr>
              <a:t>О НАЗНАЧЕНИИ ЛИЦА, ОТВЕТСТВЕННОГО ЗА ОРГАНИЗАЦИЮ ОБРАБОТКИ ПЕРСОНАЛЬНЫХ ДАННЫ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5"/>
          <a:stretch/>
        </p:blipFill>
        <p:spPr>
          <a:xfrm>
            <a:off x="677880" y="3868560"/>
            <a:ext cx="330120" cy="330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30200" y="227160"/>
            <a:ext cx="196920" cy="19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082520" cy="13176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1062000" y="117360"/>
            <a:ext cx="73454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700" spc="-1" strike="noStrike">
                <a:solidFill>
                  <a:srgbClr val="17375e"/>
                </a:solidFill>
                <a:latin typeface="Constantia"/>
              </a:rPr>
              <a:t>ОБЯЗАННОСТИ ЛИЦА, ОТВЕТСТВЕННОГО ЗА ОРГАНИЗАЦИЮ ОБРАБОТКИ ПЕРСОНАЛЬНЫХ ДАННЫ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31640" y="1612800"/>
            <a:ext cx="2808360" cy="14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Осуществл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внутреннего контро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5761080" y="1585800"/>
            <a:ext cx="292896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Ознакомление сотрудник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 </a:t>
            </a: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оператора с законодательство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в сфере персональных данны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и локальными акт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3087720" y="3173400"/>
            <a:ext cx="2862360" cy="16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Организация приема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обработки обращений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запросов субъект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f497d"/>
                </a:solidFill>
                <a:latin typeface="Constantia"/>
              </a:rPr>
              <a:t>персональных да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4"/>
          <p:cNvSpPr/>
          <p:nvPr/>
        </p:nvSpPr>
        <p:spPr>
          <a:xfrm rot="2472000">
            <a:off x="2695680" y="1145880"/>
            <a:ext cx="32544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7dee8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 rot="18965400">
            <a:off x="6004080" y="1153800"/>
            <a:ext cx="325440" cy="32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7dee8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4336920" y="1168560"/>
            <a:ext cx="325440" cy="1703160"/>
          </a:xfrm>
          <a:prstGeom prst="downArrow">
            <a:avLst>
              <a:gd name="adj1" fmla="val 50000"/>
              <a:gd name="adj2" fmla="val 50541"/>
            </a:avLst>
          </a:prstGeom>
          <a:solidFill>
            <a:srgbClr val="b7dee8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06360" y="184320"/>
            <a:ext cx="196920" cy="19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74560" y="217440"/>
            <a:ext cx="1084320" cy="13176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23" descr=""/>
          <p:cNvPicPr/>
          <p:nvPr/>
        </p:nvPicPr>
        <p:blipFill>
          <a:blip r:embed="rId3"/>
          <a:stretch/>
        </p:blipFill>
        <p:spPr>
          <a:xfrm>
            <a:off x="360360" y="317520"/>
            <a:ext cx="8534520" cy="4730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46040" y="195120"/>
            <a:ext cx="195480" cy="19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84360" y="227160"/>
            <a:ext cx="1082520" cy="13320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426960" y="210960"/>
            <a:ext cx="8209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500" spc="-1" strike="noStrike">
                <a:solidFill>
                  <a:srgbClr val="17375e"/>
                </a:solidFill>
                <a:latin typeface="Constantia"/>
              </a:rPr>
              <a:t>ОЗНАКОМЛЕНИЕ РАБОТНИКОВ ОПЕРАТОРА С ЗАКОНОДАТЕЛЬСТВОМ В СФЕРЕ ОБРАБОТКИ ПЕРСОНАЛЬНЫХ ДАННЫХ И ЛОКАЛЬНЫМИ АКТАМИ ОПЕРАТОРА В ДАННОЙ СФЕ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2519280" y="1168560"/>
            <a:ext cx="43722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иповые ошиб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062000" y="1762200"/>
            <a:ext cx="783108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Не проведение ознакомления сотрудников оператора с законодательством Российской Федерации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в сфере персональны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Отсутствие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документального подтверждения проведения работы по ознакомлению сотрудников с положениями законодательства Российской Федерации о персональных данных, локальными актами по вопросам обработки персональны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3"/>
          <a:stretch/>
        </p:blipFill>
        <p:spPr>
          <a:xfrm>
            <a:off x="544680" y="219240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4"/>
          <a:stretch/>
        </p:blipFill>
        <p:spPr>
          <a:xfrm>
            <a:off x="544680" y="3436920"/>
            <a:ext cx="323640" cy="3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79440" y="163440"/>
            <a:ext cx="195120" cy="19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0360" y="192240"/>
            <a:ext cx="1082520" cy="13176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062000" y="338040"/>
            <a:ext cx="718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800" spc="-1" strike="noStrike">
                <a:solidFill>
                  <a:srgbClr val="17375e"/>
                </a:solidFill>
                <a:latin typeface="Constantia"/>
              </a:rPr>
              <a:t>ОРГАНИЗАЦИЯ ПРИЕМА И ОБРАБОТКИ ОБРАЩЕНИЙ И ЗАПРОСОВ СУБЪЕКТОВ ПЕРСОНАЛЬНЫ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2"/>
          <p:cNvSpPr/>
          <p:nvPr/>
        </p:nvSpPr>
        <p:spPr>
          <a:xfrm>
            <a:off x="3166920" y="3335400"/>
            <a:ext cx="3132360" cy="158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Constantia"/>
                <a:ea typeface="Times New Roman"/>
              </a:rPr>
              <a:t>Согласие на обработку персональных данных может быть отозвано субъекто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574560" y="1523880"/>
            <a:ext cx="2970360" cy="157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onstantia"/>
                <a:ea typeface="Times New Roman"/>
              </a:rPr>
              <a:t>Субъект персональных данных вправе требовать от оператора </a:t>
            </a:r>
            <a:r>
              <a:rPr b="1" lang="ru-RU" sz="1500" spc="-1" strike="noStrike">
                <a:solidFill>
                  <a:srgbClr val="17375e"/>
                </a:solidFill>
                <a:latin typeface="Constantia"/>
                <a:ea typeface="Times New Roman"/>
              </a:rPr>
              <a:t>уточнения</a:t>
            </a:r>
            <a:r>
              <a:rPr b="0" lang="ru-RU" sz="1500" spc="-1" strike="noStrike">
                <a:solidFill>
                  <a:srgbClr val="17375e"/>
                </a:solidFill>
                <a:latin typeface="Constantia"/>
                <a:ea typeface="Times New Roman"/>
              </a:rPr>
              <a:t> его персональных данных, их </a:t>
            </a:r>
            <a:r>
              <a:rPr b="1" lang="ru-RU" sz="15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блокирования или уничто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5869080" y="1495440"/>
            <a:ext cx="2971800" cy="163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7375e"/>
                </a:solidFill>
                <a:latin typeface="Constantia"/>
                <a:ea typeface="Times New Roman"/>
              </a:rPr>
              <a:t>Субъект имеет </a:t>
            </a:r>
            <a:r>
              <a:rPr b="1" lang="ru-RU" sz="15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право на доступ </a:t>
            </a:r>
            <a:r>
              <a:rPr b="0" lang="ru-RU" sz="1500" spc="-1" strike="noStrike">
                <a:solidFill>
                  <a:srgbClr val="17375e"/>
                </a:solidFill>
                <a:latin typeface="Constantia"/>
                <a:ea typeface="Times New Roman"/>
              </a:rPr>
              <a:t>к своим персональным данным, если это не нарушает права и з</a:t>
            </a:r>
            <a:r>
              <a:rPr b="0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конные интересы 3-их лиц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4"/>
          <p:cNvSpPr/>
          <p:nvPr/>
        </p:nvSpPr>
        <p:spPr>
          <a:xfrm rot="1797000">
            <a:off x="2773080" y="1112400"/>
            <a:ext cx="3254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7dee8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4570560" y="1098720"/>
            <a:ext cx="325440" cy="1915920"/>
          </a:xfrm>
          <a:prstGeom prst="downArrow">
            <a:avLst>
              <a:gd name="adj1" fmla="val 50000"/>
              <a:gd name="adj2" fmla="val 50559"/>
            </a:avLst>
          </a:prstGeom>
          <a:solidFill>
            <a:srgbClr val="b7dee8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4"/>
          <p:cNvSpPr/>
          <p:nvPr/>
        </p:nvSpPr>
        <p:spPr>
          <a:xfrm rot="19777200">
            <a:off x="6370200" y="1109160"/>
            <a:ext cx="325440" cy="3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7dee8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60360" y="195120"/>
            <a:ext cx="195120" cy="196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30360" y="227160"/>
            <a:ext cx="1082520" cy="133200"/>
          </a:xfrm>
          <a:prstGeom prst="rect">
            <a:avLst/>
          </a:prstGeom>
          <a:ln w="0">
            <a:noFill/>
          </a:ln>
        </p:spPr>
      </p:pic>
      <p:grpSp>
        <p:nvGrpSpPr>
          <p:cNvPr id="92" name="AutoShape 2"/>
          <p:cNvGrpSpPr/>
          <p:nvPr/>
        </p:nvGrpSpPr>
        <p:grpSpPr>
          <a:xfrm>
            <a:off x="633240" y="1895400"/>
            <a:ext cx="8145720" cy="3067200"/>
            <a:chOff x="633240" y="1895400"/>
            <a:chExt cx="8145720" cy="3067200"/>
          </a:xfrm>
        </p:grpSpPr>
        <p:pic>
          <p:nvPicPr>
            <p:cNvPr id="93" name="AutoShape 2" descr=""/>
            <p:cNvPicPr/>
            <p:nvPr/>
          </p:nvPicPr>
          <p:blipFill>
            <a:blip r:embed="rId3"/>
            <a:stretch/>
          </p:blipFill>
          <p:spPr>
            <a:xfrm>
              <a:off x="633240" y="1895400"/>
              <a:ext cx="814572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28720" y="2068560"/>
              <a:ext cx="7756560" cy="26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1. Соответствие запроса субъекта персональных данных требованиям ч. 3 ст. 14 Федерального закона «О персональных данных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2. Проверка наличия условий, ограничивающих право субъекта персональных данных на доступ к его персональным данным (ч. 8 ст. 14 Федерального закона «О персональных данных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3. Предоставление доступа к персональным данным при обращении субъекта/его представителя или </a:t>
              </a:r>
              <a:r>
                <a:rPr b="1" lang="ru-RU" sz="1600" spc="-1" strike="noStrike">
                  <a:solidFill>
                    <a:srgbClr val="17375e"/>
                  </a:solidFill>
                  <a:latin typeface="Constantia"/>
                </a:rPr>
                <a:t>в течение 30 дней с момента поступления запроса субъекта/его представите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2"/>
          <p:cNvGrpSpPr/>
          <p:nvPr/>
        </p:nvGrpSpPr>
        <p:grpSpPr>
          <a:xfrm>
            <a:off x="633240" y="487440"/>
            <a:ext cx="8145720" cy="804960"/>
            <a:chOff x="633240" y="487440"/>
            <a:chExt cx="8145720" cy="804960"/>
          </a:xfrm>
        </p:grpSpPr>
        <p:pic>
          <p:nvPicPr>
            <p:cNvPr id="96" name="AutoShape 2" descr=""/>
            <p:cNvPicPr/>
            <p:nvPr/>
          </p:nvPicPr>
          <p:blipFill>
            <a:blip r:embed="rId4"/>
            <a:stretch/>
          </p:blipFill>
          <p:spPr>
            <a:xfrm>
              <a:off x="633240" y="487440"/>
              <a:ext cx="8145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12800" y="547560"/>
              <a:ext cx="79884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Constantia"/>
                </a:rPr>
                <a:t>Запрос субъекта на получение информации, касающейся обработки его персональных данны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7"/>
          <p:cNvSpPr/>
          <p:nvPr/>
        </p:nvSpPr>
        <p:spPr>
          <a:xfrm>
            <a:off x="4464000" y="1258920"/>
            <a:ext cx="486000" cy="538200"/>
          </a:xfrm>
          <a:prstGeom prst="downArrow">
            <a:avLst>
              <a:gd name="adj1" fmla="val 50000"/>
              <a:gd name="adj2" fmla="val 24988"/>
            </a:avLst>
          </a:prstGeom>
          <a:solidFill>
            <a:srgbClr val="93cddd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06360" y="195120"/>
            <a:ext cx="196920" cy="19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74560" y="227160"/>
            <a:ext cx="1084320" cy="133200"/>
          </a:xfrm>
          <a:prstGeom prst="rect">
            <a:avLst/>
          </a:prstGeom>
          <a:ln w="0">
            <a:noFill/>
          </a:ln>
        </p:spPr>
      </p:pic>
      <p:grpSp>
        <p:nvGrpSpPr>
          <p:cNvPr id="101" name="AutoShape 2"/>
          <p:cNvGrpSpPr/>
          <p:nvPr/>
        </p:nvGrpSpPr>
        <p:grpSpPr>
          <a:xfrm>
            <a:off x="579600" y="1620720"/>
            <a:ext cx="8199360" cy="3341880"/>
            <a:chOff x="579600" y="1620720"/>
            <a:chExt cx="8199360" cy="3341880"/>
          </a:xfrm>
        </p:grpSpPr>
        <p:pic>
          <p:nvPicPr>
            <p:cNvPr id="102" name="AutoShape 2" descr=""/>
            <p:cNvPicPr/>
            <p:nvPr/>
          </p:nvPicPr>
          <p:blipFill>
            <a:blip r:embed="rId3"/>
            <a:stretch/>
          </p:blipFill>
          <p:spPr>
            <a:xfrm>
              <a:off x="579600" y="1620720"/>
              <a:ext cx="8199360" cy="33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7320" y="1811160"/>
              <a:ext cx="7785360" cy="29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1. В случае подтверждения неточности персональных данных оператор обязан уточнить персональные данные </a:t>
              </a:r>
              <a:r>
                <a:rPr b="1" lang="ru-RU" sz="1600" spc="-1" strike="noStrike">
                  <a:solidFill>
                    <a:srgbClr val="17375e"/>
                  </a:solidFill>
                  <a:latin typeface="Constantia"/>
                </a:rPr>
                <a:t>в течение семи рабочих дней</a:t>
              </a: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 со дня представления таких сведени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2. В случае выявления неправомерной обработки персональных данных оператор обязан прекратить неправомерную обработку персональных данных </a:t>
              </a:r>
              <a:r>
                <a:rPr b="1" lang="ru-RU" sz="1600" spc="-1" strike="noStrike">
                  <a:solidFill>
                    <a:srgbClr val="17375e"/>
                  </a:solidFill>
                  <a:latin typeface="Constantia"/>
                </a:rPr>
                <a:t>в срок, не превышающий трех рабочих дней</a:t>
              </a: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 с даты этого выявлени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3. В случае достижения цели обработки персональных данных оператор обязан прекратить обработку персональных данных и уничтожить персональные данные </a:t>
              </a:r>
              <a:r>
                <a:rPr b="1" lang="ru-RU" sz="1600" spc="-1" strike="noStrike">
                  <a:solidFill>
                    <a:srgbClr val="17375e"/>
                  </a:solidFill>
                  <a:latin typeface="Constantia"/>
                </a:rPr>
                <a:t>в срок, не превышающий тридцати дней с даты достижения цели</a:t>
              </a:r>
              <a:r>
                <a:rPr b="0" lang="ru-RU" sz="1600" spc="-1" strike="noStrike">
                  <a:solidFill>
                    <a:srgbClr val="17375e"/>
                  </a:solidFill>
                  <a:latin typeface="Constantia"/>
                </a:rPr>
                <a:t> обработки персональных данных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2"/>
          <p:cNvGrpSpPr/>
          <p:nvPr/>
        </p:nvGrpSpPr>
        <p:grpSpPr>
          <a:xfrm>
            <a:off x="579600" y="384120"/>
            <a:ext cx="8199360" cy="804960"/>
            <a:chOff x="579600" y="384120"/>
            <a:chExt cx="8199360" cy="804960"/>
          </a:xfrm>
        </p:grpSpPr>
        <p:pic>
          <p:nvPicPr>
            <p:cNvPr id="105" name="AutoShape 2" descr=""/>
            <p:cNvPicPr/>
            <p:nvPr/>
          </p:nvPicPr>
          <p:blipFill>
            <a:blip r:embed="rId4"/>
            <a:stretch/>
          </p:blipFill>
          <p:spPr>
            <a:xfrm>
              <a:off x="579600" y="384120"/>
              <a:ext cx="81993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60240" y="444600"/>
              <a:ext cx="8039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Constantia"/>
                </a:rPr>
                <a:t>Требование уточнения персональных данных, их блокирования или уничтож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17"/>
          <p:cNvSpPr/>
          <p:nvPr/>
        </p:nvSpPr>
        <p:spPr>
          <a:xfrm>
            <a:off x="4437000" y="1123920"/>
            <a:ext cx="486000" cy="493920"/>
          </a:xfrm>
          <a:prstGeom prst="downArrow">
            <a:avLst>
              <a:gd name="adj1" fmla="val 50000"/>
              <a:gd name="adj2" fmla="val 25040"/>
            </a:avLst>
          </a:prstGeom>
          <a:solidFill>
            <a:srgbClr val="93cddd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6360" y="192240"/>
            <a:ext cx="196920" cy="19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574560" y="241200"/>
            <a:ext cx="1084320" cy="131760"/>
          </a:xfrm>
          <a:prstGeom prst="rect">
            <a:avLst/>
          </a:prstGeom>
          <a:ln w="0">
            <a:noFill/>
          </a:ln>
        </p:spPr>
      </p:pic>
      <p:grpSp>
        <p:nvGrpSpPr>
          <p:cNvPr id="110" name="AutoShape 2"/>
          <p:cNvGrpSpPr/>
          <p:nvPr/>
        </p:nvGrpSpPr>
        <p:grpSpPr>
          <a:xfrm>
            <a:off x="579600" y="1620720"/>
            <a:ext cx="8253360" cy="3286080"/>
            <a:chOff x="579600" y="1620720"/>
            <a:chExt cx="8253360" cy="3286080"/>
          </a:xfrm>
        </p:grpSpPr>
        <p:pic>
          <p:nvPicPr>
            <p:cNvPr id="111" name="AutoShape 2" descr=""/>
            <p:cNvPicPr/>
            <p:nvPr/>
          </p:nvPicPr>
          <p:blipFill>
            <a:blip r:embed="rId3"/>
            <a:stretch/>
          </p:blipFill>
          <p:spPr>
            <a:xfrm>
              <a:off x="579600" y="1620720"/>
              <a:ext cx="825336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85880" y="1809720"/>
              <a:ext cx="784368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7375e"/>
                  </a:solidFill>
                  <a:latin typeface="Constantia"/>
                </a:rPr>
                <a:t>1. Проверка наличия условий, позволяющих оператору продолжить обработку персональных данных без согласия субъекта персональных данных (ч. 2 ст. 9 Федерального закона «О персональных данных»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7375e"/>
                  </a:solidFill>
                  <a:latin typeface="Constantia"/>
                </a:rPr>
                <a:t>2. При отсутствии указанных условий оператор обязан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buClr>
                  <a:srgbClr val="17375e"/>
                </a:buClr>
                <a:buFont typeface="Constanti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7375e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17375e"/>
                  </a:solidFill>
                  <a:latin typeface="Constantia"/>
                </a:rPr>
                <a:t>прекратить их обработку или обеспечить прекращение такой обработки (если обработка персональных данных осуществляется другим лицом, действующим по поручению оператора)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buClr>
                  <a:srgbClr val="17375e"/>
                </a:buClr>
                <a:buFont typeface="Constanti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7375e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17375e"/>
                  </a:solidFill>
                  <a:latin typeface="Constantia"/>
                </a:rPr>
                <a:t>уничтожить персональные данные или обеспечить их уничтожение в срок, не превышающий тридцати дней с даты поступления указанного отзыва (при условии, что сохранение персональных данных более не требуется для целей обработки персональных данных или иное не предусмотрено договором/соглашением с субъектом)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2"/>
          <p:cNvGrpSpPr/>
          <p:nvPr/>
        </p:nvGrpSpPr>
        <p:grpSpPr>
          <a:xfrm>
            <a:off x="579600" y="414360"/>
            <a:ext cx="8253360" cy="804960"/>
            <a:chOff x="579600" y="414360"/>
            <a:chExt cx="8253360" cy="804960"/>
          </a:xfrm>
        </p:grpSpPr>
        <p:pic>
          <p:nvPicPr>
            <p:cNvPr id="114" name="AutoShape 2" descr=""/>
            <p:cNvPicPr/>
            <p:nvPr/>
          </p:nvPicPr>
          <p:blipFill>
            <a:blip r:embed="rId4"/>
            <a:stretch/>
          </p:blipFill>
          <p:spPr>
            <a:xfrm>
              <a:off x="579600" y="414360"/>
              <a:ext cx="82533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58800" y="474840"/>
              <a:ext cx="80964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Constantia"/>
                </a:rPr>
                <a:t>Отзыв субъектом персональных данных согласия на обработку персональных данны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17"/>
          <p:cNvSpPr/>
          <p:nvPr/>
        </p:nvSpPr>
        <p:spPr>
          <a:xfrm>
            <a:off x="4356000" y="1147680"/>
            <a:ext cx="486000" cy="493920"/>
          </a:xfrm>
          <a:prstGeom prst="downArrow">
            <a:avLst>
              <a:gd name="adj1" fmla="val 50000"/>
              <a:gd name="adj2" fmla="val 25040"/>
            </a:avLst>
          </a:prstGeom>
          <a:solidFill>
            <a:srgbClr val="93cddd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16:52:45Z</dcterms:created>
  <dc:creator>1</dc:creator>
  <dc:description/>
  <dc:language>en-US</dc:language>
  <cp:lastModifiedBy>Алябьева Елена Владимировна</cp:lastModifiedBy>
  <dcterms:modified xsi:type="dcterms:W3CDTF">2018-08-17T13:34:32Z</dcterms:modified>
  <cp:revision>14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C9E1113E3A699408BC6C9C8F8AA4EB5</vt:lpwstr>
  </property>
</Properties>
</file>